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BAD3-E264-40FC-9697-736BF385D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9D08-0DAE-489E-988A-A29EAB9C2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C161-E08E-4610-8E3B-6021C8032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4D61-808D-4A4F-92D3-6E89394D4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BC7E8-5E2B-4CB5-9892-A4AFABDAA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B7161-683E-4B21-9C22-A3A28B68F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259DE-EBD5-4851-A28C-ADB5BB708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C2001-D2B3-495D-966C-BC83725D0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4FE02-8727-4B9F-BF85-ADB8EFCC8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700FA-FCB5-4C43-A85E-91A92EE36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EA4ED-64EF-459D-90D3-645D3421C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3A3E-0A17-4A00-B37F-1933FF2E6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92EA8-7CBF-4801-BA20-DA1AB963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A59FC-0D4B-4FC2-BEFF-F50A83B8B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3C583-BDE8-4960-A7DF-95133C302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88580-B1AA-45DC-8F33-2B399521B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8475E-8E68-4519-9109-EF1168274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D0D170-6764-4885-B232-2976655AA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8832C6-DA09-4661-8C28-93480AD64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D34ECE-9179-4E57-A8C3-8F6831763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40FF26-2594-4985-A660-12C694880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D91F4F-FAD4-46C0-8D74-87DC70E37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5E8C-BFC7-48AD-AE12-CD62E65D4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691523-1B16-4A6B-9656-062A23B9A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6FFEE3-33EC-4C00-B15C-AA0ECEC4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2A343A-530C-4AB4-ACED-D89134F0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A77F80-7ACD-492D-8F2F-EF2C674EC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2C159D-FCE9-4174-9777-25EC35D21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656BCB-3400-470C-ABB6-F6BD8A4C1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BC3197-5D6D-4633-A423-90B7FC474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EEB652-7702-4407-8BA6-262530F00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E4688B-32F8-4F2B-BAB1-CA4D71864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012F0F-50C8-462A-B119-813E4838A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E7AD-0B03-4102-90EB-5EBB6D109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749114-6F9B-41DC-AF7C-D94D90BF2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CB1FA2-3504-4DCA-AC59-43EF6258C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4E5415-CDAB-4D0E-9678-6A2600CBB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6622BF-E699-4029-9ED8-D63D63427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917F86-7E1E-401D-9412-FE8179080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11467C-12F6-4CAB-982E-C07F5D61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E0C990-E6BF-487E-AA89-B20B8CE3E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0AE606-5EAA-4E6C-96BC-94BAE8F0B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538D94-9C8B-4681-950A-BC5B13138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D225A5-C19C-4D63-AF36-D71A879A7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87E3-348C-4473-ADF0-510C3B51D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BFAF89-6E0F-4F06-8206-D186F68FF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BF81FC-C097-48A8-9FC8-4FB432CBE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740107-634F-4A98-AB2B-3CE19A264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C5E6BF-D644-4ED1-BB42-7B4F052E0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50BFA1-D048-4706-A692-04CC8947F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314D9D-EE0C-4C73-9795-F98CB6725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81B545-E150-40EF-9AF9-76B70C69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1286D9-D76A-4B87-95AF-E847DFD8B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E0F4DE-8777-40B8-A89C-9F1165B2A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41E905-15D5-448A-8AED-7C18C14C0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D87D-C068-427D-9DBC-37211AD7E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FAF15E-2EE4-40BD-A968-7CACEE418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51EA58-9CE8-4FE3-A08B-CBE78D840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7C6238-AF76-44A1-B30A-31B7EC73D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786CE8-1FA8-4AEA-9AB1-305D70B14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61A55A-0330-451B-8C09-C0EE4C6A3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842E3-824D-4E41-83CE-AB9A0646E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994829-ECE5-4680-AE86-0A6CB721E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2550F-2DE6-4947-8943-A94DA7CEA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82DBEC-8709-464E-9EB7-936816642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EE9AAC-40CC-41BD-86D2-7A4668AE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3A8F-6EC1-44F0-91F0-3CB7F95C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0C8CE8-DC2D-4B46-8FDA-000B97C59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13DD62-B493-45F1-9BF4-BB3B43D45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970AF1-58E7-4E95-AF5D-EBAF1786D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6D052C-B5AE-452B-9DD9-95EF1F7A1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833B1E-1133-4AF0-8347-CE9FDCA3A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5A2BD6-B80C-4715-B3EF-D371F0C17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8461E1-7CFA-48A6-B56D-20E756137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14A040-B3D4-4FB8-A2C4-4C4F5CF42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D6221C-9FBA-4196-B861-72C3186E5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CE6676-80D3-4B74-8F31-9B9E3051E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1ADF-0102-43D7-A274-3B7D2084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A1B64F-534C-47CB-9908-89A81A648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B02FB1-80AB-4DD5-ADDB-3EC97DBE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9DF0F3-B3AF-4D3C-96EA-A7AE7E849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D68C8A-00DF-4A7E-9500-8266036A3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E924AA-900A-4501-A0A8-B563E93D4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682485-339E-4583-9EF5-4CF966463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19323E-4B38-4BCF-8386-DDEB2DB80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F7B3EB-6AA9-4435-854E-30A3AF975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512667-7D16-4168-AA41-85A2BBEC5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599D82-809D-4A32-AB90-59B13BFFF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99D6-C38A-4777-BAD9-89B689EC6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32478A-06EE-4D8B-A443-4E5502F51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54C3A7-F3BB-48A9-9518-8CBE8454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61DF38-759E-405D-B4CF-52EF418C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127A91-3F40-4988-91A9-F7DDAD37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A9AA9E-515E-4C2F-9D2F-85D483917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CAFD57-4E7F-478C-BCF5-5EBB7FFA4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DB3289-3FE9-4625-887A-E993B680D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908E4-8B67-4092-A9F4-A8D242DCA0D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D541D-6BFD-4BB2-A3D6-A9CBE3D6ED11}" type="slidenum">
              <a:rPr b="1" lang="ru-RU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EA851-C831-433B-AB5A-31DDB8FA57E2}" type="slidenum"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71E89-1C66-4E83-AA33-460E74B6544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BDEED-3848-44D7-8EC1-9875051AC38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7C526-ECBB-4F5D-AE5E-33E78FC8F93E}" type="slidenum">
              <a:rPr b="1" lang="ru-RU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9B6DE-6FF4-4ED5-BC46-ADD97CD5B548}" type="slidenum"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A7F4C-50EB-46AF-9A4C-7656C41E639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allkriminal.ru/archives/417" TargetMode="External"/><Relationship Id="rId2" Type="http://schemas.openxmlformats.org/officeDocument/2006/relationships/hyperlink" Target="http://www.bibliotekar.ru/polk-22/index.htm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41440" y="776160"/>
            <a:ext cx="8061120" cy="20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1c6e6"/>
                </a:solidFill>
                <a:latin typeface="Calibri"/>
              </a:rPr>
              <a:t>ИЗМЕНЕНИЕ ПОЛИТИЧЕСКОЙ СИСТЕМЫ СССР В 1953-1964ГГ.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41440" y="2997000"/>
            <a:ext cx="806112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Учитель истории и обществознания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МКОУ «Пиндушская СОШ №1»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Коханович Софья Андреевна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a1c6e6"/>
              </a:solidFill>
              <a:latin typeface="Calibri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В 1962-1964гг. – велась разработка новой Конституции СССР  - «государство диктатуры пролетариата должно превратиться в общенародное, допускалась частная собственность» – такие проекты устраивали далеко не всех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Из воспоминаний В.Молотова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Критикую общенародное государство… Не может государство выражать интересы и рабочего класса и колхозного крестьянства, и интеллигенции..Среди интеллигенции немало бывших классовых противников, они не могут за диктатуру пролетариата бороться…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a1c6e6"/>
              </a:solidFill>
              <a:latin typeface="Calibri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1964г. – Н.Хрущев был обвинен в волюнтаризме и субъективизме и отстранен от занимаемой должности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 u="sng">
                <a:solidFill>
                  <a:srgbClr val="000000"/>
                </a:solidFill>
                <a:uFillTx/>
                <a:latin typeface="Calibri"/>
              </a:rPr>
              <a:t>Волюнтаризм – политика, не считающаяся с объективными законами, реальными условиями и возможностями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95280" y="228600"/>
            <a:ext cx="8370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писок использованных источников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12720" y="1600200"/>
            <a:ext cx="815328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А)активные ссылки на страницы материалов в интернет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атья: Похороны Сталина: кровавая давка </a:t>
            </a:r>
            <a:r>
              <a:rPr b="0" lang="en-US" sz="24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http://www.allkriminal.ru/archives/4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атья: Никита Сергеевич Хрущев: </a:t>
            </a:r>
            <a:r>
              <a:rPr b="0" lang="en-US" sz="2400" spc="-1" strike="noStrike" u="sng">
                <a:solidFill>
                  <a:srgbClr val="f7b615"/>
                </a:solidFill>
                <a:uFillTx/>
                <a:latin typeface="Tw Cen MT"/>
                <a:hlinkClick r:id="rId2"/>
              </a:rPr>
              <a:t>http://www.bibliotekar.ru/polk-22/index.ht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Б)активные ссылки на использованные изображ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: Похороны Сталина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http://images.yandex.ru/yandsearch?source=wiz&amp;text=%D0%BF%D0%BE%D1%85%D0%BE%D1%80%D0%BE%D0%BD%D1%8B%20%D1%81%D1%82%D0%B0%D0%BB%D0%B8%D0%BD%D0%B0&amp;noreask=1&amp;img_url=http%3A%2F%2Fimg11.nnm.ru%2F4%2Fc%2F6%2F1%2Fb%2F8c8f67e14c8e292bfbab7c83c45.jpg&amp;pos=1&amp;rpt=simage&amp;lr=18&amp;nojs=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: Н.С.Хруще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http://images.yandex.ru/yandsearch?source=psearch&amp;text=%D1%85%D1%80%D1%83%D1%89%D0%B5%D0%B2&amp;noreask=1&amp;img_url=http%3A%2F%2Frusmir.in.ua%2Fuploads%2Fposts%2F2009-11%2F1258626138_xrushhev.jpg&amp;pos=0&amp;rpt=simage&amp;lr=18&amp;nojs=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a1c6e6"/>
              </a:solidFill>
              <a:latin typeface="Calibri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5 марта 1953г. – умер И.Сталин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оразмышляйте над высказыванием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У.Черчилль «Сталин принял Россию лапотной, а оставил с атомным оружием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240"/>
            <a:ext cx="815328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хороны И.В.Сталина. На улицах Москвы</a:t>
            </a:r>
            <a:endParaRPr b="0" lang="en-US" sz="32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55" name="Содержимое 3" descr="0_4209f_523cedc5_XL.jpeg"/>
          <p:cNvPicPr/>
          <p:nvPr/>
        </p:nvPicPr>
        <p:blipFill>
          <a:blip r:embed="rId1"/>
          <a:stretch/>
        </p:blipFill>
        <p:spPr>
          <a:xfrm>
            <a:off x="971640" y="1484280"/>
            <a:ext cx="7488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a1c6e6"/>
              </a:solidFill>
              <a:latin typeface="Calibri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68360" y="1413000"/>
            <a:ext cx="8229600" cy="36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 марта 1953г. – по март 1958г  - развернулась борьба за власть, в результате которой победу одержал Н.Хрущев (1-й секретарь ЦК КПСС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8" name="Рисунок 3" descr="1258626138_xrushhev.jpg"/>
          <p:cNvPicPr/>
          <p:nvPr/>
        </p:nvPicPr>
        <p:blipFill>
          <a:blip r:embed="rId1"/>
          <a:stretch/>
        </p:blipFill>
        <p:spPr>
          <a:xfrm>
            <a:off x="2195640" y="2708280"/>
            <a:ext cx="527688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1.Разоблачение «культа личности» и реабилитация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79280" y="1699920"/>
            <a:ext cx="8640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00"/>
              </a:spcBef>
              <a:buClr>
                <a:srgbClr val="dd8047"/>
              </a:buClr>
              <a:buSzPct val="6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1953г. – первая массовая амнистия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spcBef>
                <a:spcPts val="700"/>
              </a:spcBef>
              <a:buClr>
                <a:srgbClr val="dd8047"/>
              </a:buClr>
              <a:buSzPct val="6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Реабилитированы жертвы «ленинградского дела», «дела врачей»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spcBef>
                <a:spcPts val="700"/>
              </a:spcBef>
              <a:buClr>
                <a:srgbClr val="dd8047"/>
              </a:buClr>
              <a:buSzPct val="6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Февраль 1956г. – ХХ съезд КПСС – критика беззаконий сталинского режима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spcBef>
                <a:spcPts val="700"/>
              </a:spcBef>
              <a:buClr>
                <a:srgbClr val="dd8047"/>
              </a:buClr>
              <a:buSzPct val="6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 u="sng">
                <a:solidFill>
                  <a:srgbClr val="000000"/>
                </a:solidFill>
                <a:uFillTx/>
                <a:latin typeface="Calibri"/>
              </a:rPr>
              <a:t>Н.Хрущев: «Эти вопросы созрели, их нужно было поднять. Если бы я их не поднял, их подняли бы другие. И это было бы гибелью для руководства, которое не прислушалось к велению времен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a1c6e6"/>
              </a:solidFill>
              <a:latin typeface="Calibri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68360" y="1557000"/>
            <a:ext cx="8229600" cy="42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Осуждались «переломы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Критика «культа личности» (осуществлялась не публично, а лишь в узких партийных кругах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олитическую ответственность за все жертвы и лишения власть на себя не взял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a1c6e6"/>
              </a:solidFill>
              <a:latin typeface="Calibri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68360" y="169992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1956-1961г. – реабилитировано около 700 тыс. человек, часть из них – посмертно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ересмотрено уголовное законодательство, прошла реорганизация лагерей, улучшены условия содержания заключенных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Упразднено понятие «враг народа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a1c6e6"/>
              </a:solidFill>
              <a:latin typeface="Calibri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539640" y="1773000"/>
            <a:ext cx="8229600" cy="40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Из воспоминаний Н.Хрущев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«…Самое главное – все мы, весь народ, и те, кто был там, за проволокой, и те, кто трясся от страха здесь, по другую сторону проволоки, все мы глотнули другого воздуха. Это главное. Это теперь так просто у народа не отнять…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15328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2.Реорганизация государственных органов и партийных организаций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12720" y="2205000"/>
            <a:ext cx="815328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Расширены права союзных республик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1957г. – реформированы отраслевые министерства – преобразованы в Советы Народного Хозяйств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ринят новый Устав КПСС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6T15:34:37Z</dcterms:created>
  <dc:creator>User</dc:creator>
  <dc:description/>
  <dc:language>en-US</dc:language>
  <cp:lastModifiedBy>User</cp:lastModifiedBy>
  <dcterms:modified xsi:type="dcterms:W3CDTF">2013-03-12T10:37:40Z</dcterms:modified>
  <cp:revision>6</cp:revision>
  <dc:subject/>
  <dc:title>Изменение политической системы СССР в 1953-1964гг.</dc:title>
</cp:coreProperties>
</file>